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23415"/>
        <c:axId val="35403615"/>
      </c:barChart>
      <c:catAx>
        <c:axId val="83023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03615"/>
        <c:crosses val="autoZero"/>
        <c:auto val="1"/>
        <c:lblAlgn val="ctr"/>
        <c:lblOffset val="100"/>
        <c:noMultiLvlLbl val="0"/>
      </c:catAx>
      <c:valAx>
        <c:axId val="35403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23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AA9-E1EF-4D34-9361-472B3B25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3E1-0FCA-4701-9A7F-75442026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1F5-4187-495C-A4AA-DF0C69E1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A96-61E1-4752-8DB1-B9DB0EF4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C14-25CA-4990-BD76-7447F28D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573-B87A-4061-B58D-93DAA22F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1CD-56B8-44EF-BC4E-53367CA7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769-DA58-416D-B473-BC6A7AA8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5F0-CC6F-4633-BF23-89250B80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54D-6189-4522-B701-22912B82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AA8-476D-4660-B998-F48D22C0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437-473A-4D5B-A795-ABEF1148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17366-3E83-460C-AC9F-D5F67F38B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