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FF8A-8C0F-4DA3-9F9F-96C246121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E85E-B89E-45E2-B908-AB975321B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B718-5EDE-4388-B615-AAF042BE9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C531-D45E-4DFB-8D3D-D9399819D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6033E-1E13-4DC8-A767-57902D512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9E179-D86C-477A-A41A-5B6881939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3F491-C109-409E-8533-EB0B1A74E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19261-DCC2-4A6F-8974-69887E403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B1146-45F8-48C1-B773-128DDDCBA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EA9F7-ACCB-4AA3-89DE-C74A1CDCC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EFF8A-3A83-4895-9656-1B6509378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7ABE-D3CD-49B1-A7AB-156375941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11CBB-0D6A-4002-800D-346092E3E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3930B-C1AC-4787-803B-D48D8797C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78308-427F-4B64-ABAF-21CED18AA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918CA-406E-49C4-BE9D-4795BE8F8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CBFB2-18A5-4AA2-9809-FCA0A94B8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1A5E-6F71-48EF-AFE3-646F205C5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625B-858C-45BE-9258-465635DA3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95AA-C485-4843-A9E9-629108CFE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4B8F-BA99-4730-855A-ADC772B56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9FB2-BCEF-424D-B6D4-A6D6EE98D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7A8B-CAF7-49B9-B343-AD66B898E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9789-B9BA-4463-8845-B86D7FE54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25793-BC82-4CDD-9402-E333D12E01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F1123-E6BE-42DA-A4B8-7563584F15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82FDE-3625-47BB-A90D-35DBF98FD829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4788-3E8E-42E7-8BD3-DD62EC10A51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F9DF-1B2D-4F4F-8FB5-EFE17FC150C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2037-8319-449C-9BA5-7C9188A2F03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DC75-A451-4A23-9F6A-666FDA044C0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D6E4-2AD7-40CB-A3E7-DC2F4C01109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8E05-BAA1-46F6-A00D-CEF70260F5B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68F6-5605-46BC-8BCA-9E1EEC27FDB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524D-F442-4944-9D50-CB0EA76742A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5898-AC32-4ED4-B14C-A9065441EED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5501-321B-4BD1-992C-CC4A215F3F4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560C-EC7E-4BE7-B665-17EF7C1C9E1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5:52:21Z</dcterms:modified>
  <cp:revision>2</cp:revision>
  <dc:subject/>
  <dc:title>The R genetics package: tools for using genetic data in statistical  models</dc:title>
</cp:coreProperties>
</file>