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1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8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5932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800" y="4585680"/>
            <a:ext cx="85932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2960" y="2101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800" y="4585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2960" y="4585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66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101680"/>
            <a:ext cx="27666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0560" y="2101680"/>
            <a:ext cx="27666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800" y="4585680"/>
            <a:ext cx="27666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585680"/>
            <a:ext cx="27666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0560" y="4585680"/>
            <a:ext cx="27666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59320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2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59320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32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2960" y="2101680"/>
            <a:ext cx="41932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800" y="584280"/>
            <a:ext cx="85932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2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2960" y="2101680"/>
            <a:ext cx="41932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800" y="4585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32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2960" y="2101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2960" y="4585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2960" y="2101680"/>
            <a:ext cx="41932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800" y="4585680"/>
            <a:ext cx="859320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584280"/>
            <a:ext cx="8593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59320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28260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680" indent="-2127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20340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6320" indent="-20484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6320" indent="-20484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6320" indent="-20484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4800"/>
            <a:ext cx="86072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85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TS: Microarray Time Series and Network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7720" y="6626160"/>
            <a:ext cx="61830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act:   korbinian.strimmer@lmu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336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site: http://www.statistik.lmu.de/~strimmer/software/genet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76240" y="6651720"/>
            <a:ext cx="1397160" cy="62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4200" y="6694560"/>
            <a:ext cx="1490760" cy="57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75080" y="757080"/>
            <a:ext cx="5577120" cy="443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18200" y="4738680"/>
            <a:ext cx="2970360" cy="207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9080" y="899640"/>
            <a:ext cx="511020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e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cuses on the analysis of ge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 series data (e.g. periodicity testing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he inference of large-scale gen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gene relevance net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ference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chert et al. Bioinformatics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chäfer and Strimmer. Bioinformatics, SAGMB (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gen-Rhein and Strimmer. WCSB (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packages nee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rpcor, longitudinal, locfdr (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aph, Rgraphviz 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419640" y="4680000"/>
            <a:ext cx="35114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