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E13170-3432-4442-8923-70B911E618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2581D-EC2C-47E5-96A6-BB88D27682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7EFEB6-061F-4D78-AF8C-0E5CF538C7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76126C-E9C2-480E-AC1A-2ADB86C878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6CD97C-F63B-4255-9B79-04174E111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C4BA7B-139A-4308-929A-D321A3FDA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C51CDB-E595-4823-91C3-277F7CFA9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1BA437-49F6-4381-BFF0-3DB279DEA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F07687-9702-4BC4-93E4-8C5ED1CD1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9EEF58-8015-43B0-A988-3E1044065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661D3E-7377-4A39-85EE-DD5AFE21C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8F4975-BAD5-46E4-BB30-14D812D12D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1C0315-7B91-4D30-BB0D-53425F0EC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D4B07C-C286-4B94-914E-021BEDB1A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FE352D-BC83-44DC-BC4A-43E1E19E8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5753AF-B196-41FC-A8A5-CF816EAD1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B98162-4CD2-4FA1-A7E9-0B347FFCC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4A29E3-55B8-46FA-A6AC-34DDC4D1FE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06E212-E5C3-46C2-9B1B-975424D309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BA00B3-6EBD-4E56-936A-9527B41414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15A02A-9B14-4698-B8E4-F1ADFAB34A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F465CF-D510-47D0-9E44-5D2641BE38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99248C-4F50-4EE1-94D0-5894577745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EF06BB-DCE0-4EC4-9D85-487DBCFC0E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FDB85-43E8-4FF0-B240-A1913D173348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BF0A5-EB7C-4366-974C-5272A9610911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27780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emo(DierckxSplin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ludes examples with data discus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0"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ignette(DierckxSplin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e"/>
              </a:rPr>
              <a:t>Provides more details on the spline fitting and algorith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e"/>
              </a:rPr>
              <a:t>Includes relevant sections from DierckxSpline (199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8F5375-FB53-458D-997C-A699752B4E5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A9DDAC-8E85-4BAE-84E4-81A65133635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964E2D-5763-431C-BBB3-C3C14803742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knots(f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knots(f3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8CBCD6-67A1-449F-9888-362D03A1159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20B2E8-97D7-4C32-A100-7B9DE8E13B3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531F55-CD3A-4147-90DC-EA4C7114C6D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FB8B0C-8B70-464F-A1E1-6415538D58C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for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3C2784-75F0-448C-9AF2-9E8AAB0EF14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4096B6-15B7-4019-9C4C-33E86B7751D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2E84D3-1114-4B37-9A5B-4499B649D0B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DB4281-1CC6-4F08-9508-EF0A59D762B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690C9D-657A-4CF8-8E6B-09CC40486F6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DD48A9-4360-4528-BDF1-01C4038F90C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5243F5-83BA-4515-8773-3C775A57BAC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7-08-18T20:30:08Z</dcterms:modified>
  <cp:revision>162</cp:revision>
  <dc:subject/>
  <dc:title>minSpline: An R Package For Minimal Knot Splines</dc:title>
</cp:coreProperties>
</file>