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625363"/>
        <c:axId val="79321499"/>
      </c:barChart>
      <c:catAx>
        <c:axId val="96625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21499"/>
        <c:crosses val="autoZero"/>
        <c:auto val="1"/>
        <c:lblAlgn val="ctr"/>
        <c:lblOffset val="100"/>
        <c:noMultiLvlLbl val="0"/>
      </c:catAx>
      <c:valAx>
        <c:axId val="793214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625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D597-5C7D-453C-A12A-F9259892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7C40-4945-4B3A-BEA0-BBCDF96E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E82-4DDF-4FAA-BD5D-874DB1B3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5B5-1399-47A2-B676-D9C3EE1F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59F-9264-4FF9-B1BD-C17BC30F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9C5-E486-4D2E-9E8E-27C2D014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C84-8EFE-48CB-A36D-CE04B025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21FA-F4E0-4303-AB46-E460BA7E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24B5-5818-4996-9983-2DCE1FB0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EC2-FE21-4965-892E-12452ED6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671-1221-41D2-BB43-B710058B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4E3-4B03-485F-B7B5-E7881F67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9A962-A979-49B6-9003-8C69E01496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