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1789"/>
        <c:axId val="83152123"/>
      </c:barChart>
      <c:catAx>
        <c:axId val="4701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52123"/>
        <c:crosses val="autoZero"/>
        <c:auto val="1"/>
        <c:lblAlgn val="ctr"/>
        <c:lblOffset val="100"/>
        <c:noMultiLvlLbl val="0"/>
      </c:catAx>
      <c:valAx>
        <c:axId val="83152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1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21C-4165-43BE-BA2E-FB741471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0F7-9386-4382-BD8F-14343967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243-90E1-4BC9-AF55-2174D8C1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EF7-5E5E-4AB4-A2BE-8E1D7263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450-046B-4FA1-9C5C-B3B7BC0F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FF6-44AA-47C6-AB0E-02A49601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356-8A44-4324-88D0-D884FD18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DE6-A3CC-445C-988C-1FE60D57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86A-7B18-4A3C-BD0E-442D8B63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210-C4FD-4697-947E-0BDEC8FE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E52-C5D1-4C14-8C9F-25F192B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E11-D5D0-44E3-B0F2-8A8EA0D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E0F89-B558-4191-8F6F-19ED7BAD3C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