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13991"/>
        <c:axId val="11418068"/>
      </c:barChart>
      <c:catAx>
        <c:axId val="4211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18068"/>
        <c:crosses val="autoZero"/>
        <c:auto val="1"/>
        <c:lblAlgn val="ctr"/>
        <c:lblOffset val="100"/>
        <c:noMultiLvlLbl val="0"/>
      </c:catAx>
      <c:valAx>
        <c:axId val="11418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1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0F5-DF89-4614-BC78-0FE47E1E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592-31CB-432F-97B3-9B3EBFF6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8C4-C5CE-4F62-B36F-FD7447D2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0C1-25E9-4201-8300-022054E6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D0A-2DA1-48D4-913A-889FE90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C9A-0589-4B59-8B33-BC867E0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C12-ED5F-4F07-85A3-33C05941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70A-B76B-421C-AC02-5FEC9072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201-4000-4ACC-A9DC-C6DCC15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F68-91D3-4A92-B616-A6F45D57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1EF-11AC-4A0F-82C5-34ED880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2E0-3B69-449A-9EFE-E5168BD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5933A-6576-4F1B-B84E-56DFD8831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