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13560"/>
        <c:axId val="25166216"/>
      </c:barChart>
      <c:catAx>
        <c:axId val="42513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6216"/>
        <c:crosses val="autoZero"/>
        <c:auto val="1"/>
        <c:lblAlgn val="ctr"/>
        <c:lblOffset val="100"/>
        <c:noMultiLvlLbl val="0"/>
      </c:catAx>
      <c:valAx>
        <c:axId val="25166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3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DAA-EB3C-4B18-A332-389291C5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1A5-E5EE-4F48-AF4F-86D358B2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E44-1679-4371-822E-37E64078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F65-C1E1-4D71-9A01-73A70CF1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284-978B-44B1-8B4B-3E5A321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6AD-5909-424C-BE37-5C0DEA5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2AF-0C9E-47B9-88D3-21F35176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7F8-8063-43D4-B101-A00DBE1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D7E-54D6-46DB-A40B-B50BFCC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D26-475E-40B6-A704-230E94E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7C2-D5C0-44A8-A246-A024672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1C9-ACA1-4BB8-A916-4A9FF13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446C0-689A-43D7-A2EF-E39D7D7B0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