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99858"/>
        <c:axId val="17128225"/>
      </c:barChart>
      <c:catAx>
        <c:axId val="23799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28225"/>
        <c:crosses val="autoZero"/>
        <c:auto val="1"/>
        <c:lblAlgn val="ctr"/>
        <c:lblOffset val="100"/>
        <c:noMultiLvlLbl val="0"/>
      </c:catAx>
      <c:valAx>
        <c:axId val="171282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99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CCE-B354-4417-A877-D3CD916A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7C9-7A13-480A-AC81-631A6CD8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7B18-7FE1-443C-BAF4-51AC9A11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E7F7-391E-4B2D-A536-E0805F55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2058-8CFE-48B4-A5BD-7D9DCE24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ECA-6AD9-4FFF-A439-1990FB0B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3F6-920D-40F2-8747-584DC44C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81B-25DE-437D-A4D2-ADE68B4A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102-827F-4418-BE0B-6A09A562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6E5-29E3-4628-B7B0-64B2F5C7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28DC-18B2-4A1E-8EF6-8A931F79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D65-30A5-403B-8A89-3A5EFFD5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116F1-FAE9-478A-A14F-48270DCD35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