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45914"/>
        <c:axId val="57223850"/>
      </c:barChart>
      <c:catAx>
        <c:axId val="82745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23850"/>
        <c:crosses val="autoZero"/>
        <c:auto val="1"/>
        <c:lblAlgn val="ctr"/>
        <c:lblOffset val="100"/>
        <c:noMultiLvlLbl val="0"/>
      </c:catAx>
      <c:valAx>
        <c:axId val="57223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45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860-B9A0-41EF-A571-6F4055D3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F6E-C968-4693-8FD6-BA6CF5E6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984-1CFB-48AB-9894-B3F8CFE4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5DD-6947-49B9-9B58-0BFCA31A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D29-B17E-432E-9D5F-18A5BDF5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B1B-BD5E-47B0-84CE-9B24CA40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1D1-DD49-4C4E-B3FE-5071EBCC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683-2EE9-4642-B231-58FBE1AC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7FB-AD96-420F-A8D9-30219248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E0B-51A5-4490-9A50-643A9454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0DF-9131-4003-B505-E2BEA16B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F28-7E4C-496B-84A0-EBC9B41B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23BC2-3AEF-4394-96B4-E444F9C9F5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