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34103"/>
        <c:axId val="7000842"/>
      </c:barChart>
      <c:catAx>
        <c:axId val="32434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842"/>
        <c:crosses val="autoZero"/>
        <c:auto val="1"/>
        <c:lblAlgn val="ctr"/>
        <c:lblOffset val="100"/>
        <c:noMultiLvlLbl val="0"/>
      </c:catAx>
      <c:valAx>
        <c:axId val="7000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34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AEF-AFED-4487-A738-D67577A6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16D-43CE-4F67-BAAA-76A6175B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713-9646-4D8E-932B-5184D153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706-F707-478E-AD5E-2C3FB9BC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37D-BA48-41EA-B01C-671BC93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40F-E624-4A08-A4AB-28CF451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F57-B0F9-4C65-B059-23DC42B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825-3407-48D0-A77B-5DBF156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167-5C6A-482D-9396-110F2C93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2D3-5087-4C27-8976-5762AE1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B8E-C956-4C12-A15C-E67DEADC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A89-7A99-428F-93E5-E79B02F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68278-633E-4D1C-9196-E3138ED6F3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