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43243"/>
        <c:axId val="94053115"/>
      </c:barChart>
      <c:catAx>
        <c:axId val="70943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53115"/>
        <c:crosses val="autoZero"/>
        <c:auto val="1"/>
        <c:lblAlgn val="ctr"/>
        <c:lblOffset val="100"/>
        <c:noMultiLvlLbl val="0"/>
      </c:catAx>
      <c:valAx>
        <c:axId val="94053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43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39F-E20D-49AC-8C2B-C0BCD5CE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2B2-0D2D-4DA2-A04B-67805487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FB6-49D9-4797-9A91-2CB9C008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E11-3C0E-45D9-A9C1-C5CD8CF3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3E2-81E9-4BB8-8103-FD76E26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A15-DFBD-4976-8CA6-E156022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14C-1684-488D-AFFA-033107F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4AA-A4B1-438A-9615-7126CDF3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3B3-3E25-4CCD-B9EF-4107791A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C34-BCB9-4289-A2BD-B5308F2D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988-6BB9-4C51-B27D-C204CF9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9B8-8B4D-4365-ABEE-A5CC38D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A3B7E-4A41-418E-B141-768EF93F13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