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75376"/>
        <c:axId val="1091841"/>
      </c:barChart>
      <c:catAx>
        <c:axId val="21175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1841"/>
        <c:crosses val="autoZero"/>
        <c:auto val="1"/>
        <c:lblAlgn val="ctr"/>
        <c:lblOffset val="100"/>
        <c:noMultiLvlLbl val="0"/>
      </c:catAx>
      <c:valAx>
        <c:axId val="1091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75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6A8-7141-47FE-836C-B5239C16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3ED-9089-463C-AE86-FEFC4938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AFA-F9E9-4450-ABF8-3BF45263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A39-02B0-40A8-B784-66347C3C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8F2-334D-420B-A96E-3AA2E9B6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B6FB-371B-41E3-A413-578DE014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33F-0113-414A-ABD4-2B9DA2CD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3D6-E98E-45DD-9E91-62FFF163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097-2C67-4F10-ACCA-6C2675F8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58E-A412-408A-B69C-30750879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922-A0C7-4BAE-91EB-4CC413CD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F13-64FB-4C45-B205-785504A2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BB9E8-68EA-43AF-8564-2567541CA6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