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87546"/>
        <c:axId val="64877228"/>
      </c:barChart>
      <c:catAx>
        <c:axId val="681875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77228"/>
        <c:crosses val="autoZero"/>
        <c:auto val="1"/>
        <c:lblAlgn val="ctr"/>
        <c:lblOffset val="100"/>
        <c:noMultiLvlLbl val="0"/>
      </c:catAx>
      <c:valAx>
        <c:axId val="648772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875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088-5E85-43B9-90D4-D2C59510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5D80-1743-4763-814C-9419F98A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937D-E81E-41CC-931D-C9BD8607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AF18-F254-451F-A96F-BFD00F99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0FF1-91EC-4235-B62D-EAEC4404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381-151E-431D-BC78-9E5A99F9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ABF-F08D-4A58-ADCE-02104D90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C79-6379-4D08-A5BA-E1269B24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BCF-0A4F-42DE-9184-63B09826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44D3-F83A-48D2-9D04-2F121351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F22-2079-4677-9A2A-B36B431B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28E-5F59-4B85-9305-9F95A407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8072A-6DE7-48B9-A7DF-032E395A1C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