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42561"/>
        <c:axId val="22316992"/>
      </c:barChart>
      <c:catAx>
        <c:axId val="92242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16992"/>
        <c:crosses val="autoZero"/>
        <c:auto val="1"/>
        <c:lblAlgn val="ctr"/>
        <c:lblOffset val="100"/>
        <c:noMultiLvlLbl val="0"/>
      </c:catAx>
      <c:valAx>
        <c:axId val="22316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42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858-EFFE-4598-AECC-FD82F6D0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578-46B1-40B8-9AAA-5524CC4A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2A9-A9B9-4D04-AC1B-F336D137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179-E254-495D-A8DC-10CC28DC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4C3-D8FB-4086-B0EC-9E5E5E50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04D-AADA-4B24-A025-E91EB079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80A-AD82-45E5-8181-D083AD34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E22-810C-407E-951D-BD609FBB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364-416B-45F8-AA9F-ED11B9D1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537-B760-4C3C-9737-8458635E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945-80EC-47BC-BEA3-CE22F91B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0BC-CD63-4CD2-B623-77F603C9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F130F-D538-44F8-AD3D-36A6F0C4DF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