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59718"/>
        <c:axId val="92464998"/>
      </c:barChart>
      <c:catAx>
        <c:axId val="46259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64998"/>
        <c:crosses val="autoZero"/>
        <c:auto val="1"/>
        <c:lblAlgn val="ctr"/>
        <c:lblOffset val="100"/>
        <c:noMultiLvlLbl val="0"/>
      </c:catAx>
      <c:valAx>
        <c:axId val="92464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9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2B1-CAF2-475D-958E-77160CC9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583-B61D-4212-B218-5F54781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569-6D47-4B82-B31E-927DC9A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639-A7B6-49F4-B70A-153842EE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551-365D-41C3-BE2C-980B246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286-70DC-4DB0-A8DD-168FCEF4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781-FE23-4824-9410-84D16805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AE2-3F36-4960-84C8-AD6D8E6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86D-FDCE-4C5A-A80B-D9E1EDD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194-2329-4578-A308-B83578F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3D3-94E3-44DF-B484-9F3709C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D05-352D-4738-B1DC-BA60755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45E9C-7ED9-4AA3-8854-10FDC62732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