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52907"/>
        <c:axId val="48617766"/>
      </c:barChart>
      <c:catAx>
        <c:axId val="56452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17766"/>
        <c:crosses val="autoZero"/>
        <c:auto val="1"/>
        <c:lblAlgn val="ctr"/>
        <c:lblOffset val="100"/>
        <c:noMultiLvlLbl val="0"/>
      </c:catAx>
      <c:valAx>
        <c:axId val="48617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52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1E7-65F5-46D6-B99F-F3F33F73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CA5-7E1A-49CA-AE15-DBFE45B6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D77-70B1-42C2-90AE-068CFA6F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48A-7840-454B-9484-109C211B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3F0-1F5C-4151-A469-C1F905B2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A93-85E9-4501-921F-E980F5E2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38D-AB7F-436B-B2F9-138D71A4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227-FA73-454A-B39D-092CCE4E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1C6-B244-46DB-B2BE-BB1430B8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7F3-D804-4958-9623-614F3068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5ED-8977-4216-85D2-2B200AD6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F6DC-53BB-447A-9D69-40A2596F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26B54-D662-48D1-9488-9797D09D60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