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468714"/>
        <c:axId val="79127802"/>
      </c:barChart>
      <c:catAx>
        <c:axId val="244687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27802"/>
        <c:crosses val="autoZero"/>
        <c:auto val="1"/>
        <c:lblAlgn val="ctr"/>
        <c:lblOffset val="100"/>
        <c:noMultiLvlLbl val="0"/>
      </c:catAx>
      <c:valAx>
        <c:axId val="79127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687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709E-BF69-478B-B86B-EFF4EDBC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4A4-2C9B-4E4B-88C9-3FD247D4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8081-E3A7-4A33-ABF6-DECC3DC0D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BFD0-6A04-46F4-81AE-D59A207C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A4E2-00AA-4F61-929F-ED58E4B9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CBE8-EA4D-4208-8906-500491ED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1BE1-D3E4-42D0-B36C-CBCD9695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7303-007D-4C65-A691-63684EC9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1806-359E-4DFF-81A8-0219C6E2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65B5-960B-4AF1-883C-8FEAA9C7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BCA8-FC3D-45B1-80A7-482753E9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65AF-02EA-40BD-A50D-9E436D8B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03A93-DD8E-412C-8B0D-9F62C69932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