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3C19F7F-0590-4BF5-A64D-1EC7EDBD52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FBC718-F6D4-4AE9-A9A3-5CAA44FA4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63DB3D0-D7F2-47A6-A1FE-3BB36B091B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FFCD61-C94A-4E2E-858E-D58EDB61B2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B5412E1-F9B7-46BA-B199-1CD14E31FC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4CBD314-F9A3-453E-A887-D97E42C7335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DA2B28-8D64-40C2-8918-983BDE6172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AE8338-474E-407C-9091-EB4DFB2DCB0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DA68CC-23CD-4436-A18F-C0FE159EBD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58850F7-3D33-4550-82D4-5C48E47841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AE3F5FC-1238-4AD4-BCC1-31496951EE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1F48FF-D127-4011-B6B6-5ADF81C123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0B5248-67EF-4885-8156-7533CB74B5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A5C6CB-5527-44F8-A66C-94F50A61C8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DB8D32-9D1A-4B2F-9ADA-ECD5E2C7F46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709D8D-E252-4B53-8F61-5BC5F8D1FFA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047CAA-F32A-4EFF-8203-4ED8835A846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B4CE0E3-F246-4CF1-96CC-3448DB934B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565AC8-6516-426E-A072-D51DBE64DC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1328F3-88E8-4E56-B237-39A508C9F5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3381F1-3481-4CF4-A9CE-B4A5A469E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E8979B-0937-462C-86D1-D9B8AC287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8B0801-9466-4866-91D8-55786E5906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7A8CD4-1988-40F1-8CE7-2E6430B9492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CA808-4B61-4D25-8B62-B4E1F71BA72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65DDB9-E5A6-4D5D-8FCB-D8B728C26F1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70E5231-61A2-4BEE-950B-48C4BD4216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294009-F4DD-4D7C-AE34-E39003CB3F0D}"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2540DF-D199-4A58-B9F7-0CD265D6755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DEDAA-D657-4C3B-93B7-A02F64B535EE}"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72654-F6AF-45FB-A2F9-69B4F7C8EFC4}"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997A2E-33B9-43C2-8F26-F302F1FEFE8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177EA-A044-4D90-8F75-9491FCAB837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A0266-2946-4352-84F8-5BC3155A3FED}"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6A052F-4CF6-4B39-8FDB-988BD28A0C1B}"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3853D-21F8-45A4-8901-305306217FD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03FE8-FA4B-4644-9A32-6DE0B48950C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8F48F6-419C-4958-9F8B-4CBCB0B6C64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86F79-6CED-4FFF-BA16-865EC6C8C903}"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6D4207-208E-4308-804B-8E134F05D9A3}"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16A408-F7E1-42D3-9745-810CB8D7F4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9A076-0CA5-4730-9DCC-611DEBE7E62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885611-1548-43B6-8C73-4964887CB195}"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5715B-A6C1-4DD3-B2C3-00BC94D63D1F}"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9F12B-E8CD-4B34-9A82-BCEC9FC7727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CBB48A-02F9-4DE4-9B0F-7870CA2AF34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0F162-61F3-4D08-9E1B-942B3C9CDBE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F1A3C-401D-4345-9AD1-B4992DA00DB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70C98-4770-4577-BC9C-30D40014C51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93D82D-F3C5-419C-9B21-DB4A3CCD2C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2D9025-D18B-4101-ACCF-5AF9C571FAEE}"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ED34-2FDA-41D7-8418-28E18B6C482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1D77F-85F5-4F10-8103-8C8A71E4070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85CD6C-9B40-464C-9EA7-1782779E535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5FCAA0-4E30-4ED2-8308-60FEB681B50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5330BE-FE5D-4CBB-BECB-9E1D9724211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BFAC96-1C9E-4590-8442-304E7DCE23DC}"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84002-4E8D-4549-BC3D-E08D15C87FE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974B63-8DCF-46D3-ADB8-B679FF1CB7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29FF64-1694-4B18-9631-454DBA00E5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9785F-30E8-4BFB-8F45-5190ADB1CC1E}"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1032DB-4A49-4064-B37C-28159E897CE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14A6D-AEFB-42E8-A0B6-3AA0B50129D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F2A2CB-1CB1-4BE5-B3CE-A751A8731EA7}"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DD3917-4144-41D2-A667-0154D50F145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CFD66-D799-477E-A0FC-0109E3059CE3}"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543D3-2510-49D0-BA6F-F1E149E890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87063-4F12-4F69-947F-B6A06C83100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705BF9-D4D2-468A-8343-E7B775E34988}"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E826F5-0B27-4726-899A-6BFB2A11CF6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7065A-1ECA-4C54-88B4-F057D3FBE3D9}"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ED095B-F994-4EAE-BADC-132AF1C3975E}"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4F1DEA-E2C3-4133-885D-6DBFBD5E6684}"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2C54B8-B028-40B9-8AED-849DAFAFB6B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E948822-7783-4E3A-9401-33546EE66D7F}"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1C265D-1B4E-484C-82DE-0B6DB54DBC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206F10-795D-46EA-8F6E-60005540246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199A86E-11C2-4931-A024-B48371A1F83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FCC69D-4E07-4FEC-97DE-AC2D1A23291D}"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A0DEA-D037-4E8E-A72C-5946632895F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F6E69-9C30-4356-B1BD-B810ECDF387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8CBF6E-0BE1-48D1-A1AC-87EB3FFD685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88BB23-7363-4DBC-8274-EAF470139FDC}"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E96C2E-A9C0-46B5-9F35-39047929F843}"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1E2D4F-0BA2-4AF1-AAA5-CC0829FE1EB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585D5FD-4437-4B2C-82BF-7A7BD3D142E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68656F-3B5A-4048-8178-734667C6AEE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6CF5E-1939-4B76-A988-64923EDCC331}"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73A90-A929-4329-B77E-EE8A736BE9E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43084-A318-47D1-ACFA-344E2F3FF48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55AED7-2DB6-482C-9AB7-0061874FD63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1E786E3-CE8B-4969-A21E-E72235FD50C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AAC3B8-EA80-4E29-9D75-3EA4C2A106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85FE29-048D-42A3-8A06-CCD21909476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AC571-4DB9-4AD9-82DA-9E968A8DFFC8}"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9E1C35-ABE6-472D-8BC6-500591E7B371}"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25CEBA7-8AD6-4AD4-B6DE-DF4619771F04}"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66186-FD50-464A-8106-A712B58573B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08433-9B58-435B-83A7-1E0359301A9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D0CF0-ABE4-4191-A952-B598902B7E1B}"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E1B75-4BB8-44DD-B503-E89BD2DB997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54638C-3EE5-4BF3-8C9A-8E52AD89D21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2BA3B-F7D6-46FB-A650-86B444B84C1E}"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A6D29C-1415-45EC-818F-6E0E9B15400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D434D-8B00-4672-8E39-2E131361C456}"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FAD0BD-28A1-462E-AC25-E3331E38719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735D7-A9D6-486D-A5FD-E6E79C7C5D5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1E1C65-8371-4083-9969-DEC2629D6240}"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91928-FC83-43C5-9846-EE21EF794B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46F9A4-CE76-47B0-956A-EB09C7BAFD77}"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43EB8F-D2E8-4AFE-88E4-12F7D3130F4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C3B865-5A2B-4450-B55C-084C1343748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29FEB3-CC21-4F4F-8721-9892734AFF75}"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1EB444-20E7-4837-A8A8-95B17B976B3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773EB-B978-471B-9A3F-EAE314F8FFB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2D188-E769-46DB-9910-33672B7B3A9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943B2-25B1-418C-A163-B0E7BF90AF5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10F66-AB50-4827-9472-6D212DDDE4E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F1BB4B-338A-495F-8CF5-015120F05F8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1B9D1-596D-455D-849A-3498634F5F2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08EA1-8A99-4290-B6E3-F595CCF32593}"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A25B4-4719-4FEA-82F2-47207E20912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DE496-8575-4961-8D4A-9BAF3B7CFC00}"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59895-86FF-4018-96A6-6BFD42B3CDC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98C87-E61D-4210-B14E-C8D9EA54D0F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6390226-0863-40C0-98A6-046FE5E2DF0F}"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144D2-9939-4B1D-B26F-6315D4D4E05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7066E0-8ADA-4768-A7C2-719E2046258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11DD1-41E7-449D-A52D-3571F3F65AD7}"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B65A8C-1890-4ABC-AC89-A690CF4BBF75}"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9B60C9-01E1-4E94-B6E3-9B351A34B50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59B40-8F5A-48EA-9335-198263282A03}"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EBDC89-524E-4EA4-B993-13161AE671E1}"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E16F36-C4CE-4E5E-9612-43A4564A801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532AD8-48FA-47F7-880A-2FD112A0DC1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B4EADD-2B8C-478E-B0CB-37F53D5C185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FB05A4-00A1-405B-936A-9EEE141979E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F84A-214C-4323-A078-484A6C2BA5E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03C13-928B-4B19-A42F-C458D56C05C6}"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3720A9-6921-4D3C-8D99-1D14F1E0972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9B9362-F9D1-4599-A165-CB5EB4A8216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F95C6-0AFA-4E6E-8378-5D6AD0A998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2FFE2-EF55-4B99-9615-0E321E3C3EEC}"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0B665-EDC8-4E4A-858B-2A976B8A200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9C64AB-3FD9-4290-B077-2024DE3E39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34923E-FF09-4E5F-8A59-60FFB53B4C88}"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CA0CF-C1E0-460B-96B9-A8C1A9D65D38}"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A9D6BB-63E3-45C9-AB90-A6837B29653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BEDB3D-1E48-4AAC-8A8E-3CF401D2C84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22F19-EC5A-41AB-8511-07EF36AC7D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059D02-ABCE-4D20-8E13-44318701748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91C03-1992-476A-B03C-D5AD3512B3F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D0EB-BE9C-4A8D-AA6C-DCED0857631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2882E3-B409-40FB-BB38-88CC0DE02904}"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23690-97C1-4C92-AC21-4A96F292A2E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B689-6988-40A2-BA7D-C76D5B2A59D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A1B9E0-EF46-43FF-B99F-056ED0CE77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CD09C-06FC-460F-AF36-186286556ED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D6E33E-3DE7-4A8A-8330-21E02168D89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CE5E-8E84-46C8-8357-00415033FAB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514C2F-598F-47E7-B599-A8A025B549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576486-FBE2-4727-AB3B-37EAB106300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0EA746-41EA-40E3-BEE9-ED5E6E2BD71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7E28D-EDC4-47DB-AA0E-7FB81E778CA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B8951-9010-4314-8959-7F9CCA24D35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11A65F-E51E-456F-8032-017EA150F6A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55D1E-E828-4DDE-9273-4567469C890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2C042A-0B1B-4F74-8C00-FC5F57D6B9D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E577AA-44F3-4219-BF7D-C49CBCFD24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9F9C0-B140-4D5B-A6B4-785D00D370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A457DB-8B8E-48CF-A955-DF5E91DDF1F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3D3D1-010F-4944-95D4-1C4F4F466F69}"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D20B6D-FEF9-4B95-81B6-83227F20374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39DFD-4592-4D9C-9505-56C486E4A42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49500-B202-45D9-89B4-8D45AAC0959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EF27BD-524A-4117-9AA2-5CEE7FE44C2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CEA631-0940-406E-A527-A2EF7A1E639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FB576-5A84-412F-A2F8-4EEB5899C20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45CC24-BEFE-47FF-A9AD-BF01B305269D}"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C1D568-AF24-4415-A458-41F2EEFDE25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0AA30-3333-44F8-8E3E-81D50C22BD8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966FC-FDFD-4B17-9DE4-BD2B46B6787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DF407E-71E8-422F-ACCB-4854423A4C3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32C406-69CF-4726-84A5-3DCD257ED49C}"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AA2FA2-BC57-4EAF-9D9C-D0FC82D4556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683F6-3376-449C-B2A7-D0E6CA235733}"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73D749-89E6-4BD5-8F3B-679095A61CB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5D0AC-FFBA-454F-A6D4-0C00B56AFA7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196003-02FC-4F44-A340-6FD1D528F52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03F8A7-92BC-48A6-9C55-E3A6C2FCBA1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7A8C0-E86A-431C-B263-8D2882CAFAEF}"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00569F-C453-40D2-9A7A-72DEF76E812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A118F0-3915-4525-B56C-462380A5401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C075C-0C80-445A-AABE-25DA698B203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FE0D-6A1C-4292-8AA0-358AD8F7651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BC55F-F1C2-4C90-933C-ED9893E90CA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EEC8A8-8519-407B-9925-68113EC4040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63CD92-BE7A-4349-B593-A6147939761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9CFE4-8AB0-4C34-B5A1-C338C1CBD396}"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D57A6-D290-4D7C-8116-A5AB52C46B9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C1E4E-8FFF-41E9-9F70-C1DA44BA9984}"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72F6486-7C86-4C1A-A15C-7AB14310AA0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2F708-948D-404B-856F-F044BEEE667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3389D-C7C7-4823-91D3-A6931235A898}"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C8EB35-3522-4A59-A8C0-22458C84472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0598-7F1F-414B-BA00-EA9E03B80956}"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6BEE4A-3395-432C-9C15-BFAA8A622AC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7F807A-FA01-4A25-A3BF-46A39B9F6C9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CE861B-AFA9-4285-BF50-B7E169A94B8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A56501-F6C5-4195-9716-10D3CB6616B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D134E3D-3F38-4ECE-BF53-D370C378C2C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E21F6-96F7-4255-9C09-E2C71A46B51E}"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89AD5-35DE-4F4A-BC2A-3DDD013653C2}"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3F0E0-BD40-4CB2-B0E4-B425A70657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448FD7-033B-4869-8C82-49F940FFDE7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36D1FB-EC81-4187-9064-3EF4C2067086}"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55108-ACFD-41FC-A20A-D4061E2CEE3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C962A-A691-4FD7-92BB-0F472168968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3322B-9E9A-4A53-AD00-38A6A6E784E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DE5CE0-5435-4A2C-BCB3-8E67E2DA91B6}"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EF257-B699-466E-9516-78A08F11C240}"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F6B36B-5A6E-4090-946B-C1D9CBF99CA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9375D-86CD-4342-9983-0845D5BA5D7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B6E0F5-ACB3-45FB-BC5B-C9AA89778EE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686089-FB3B-4E64-9573-6A617557192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019441-000A-41D1-A5E7-774F3243AB55}"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E174D-32D2-44EB-AAE7-579E32E37C9B}"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5A400-4B46-4728-8DDB-059ACB7EC4C1}"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87B37-3E68-45E7-8C5F-E39AC4D81C0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0D440-06C6-47D9-B5C6-C7ADA7796BBA}"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2B103-A300-45EE-A6D7-71EB39B60D7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6FC5C6-A191-49E0-BC0C-37FC30EA912B}"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CF1DF9-A2BA-4DC8-8D00-5FDE9050F67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A5752-3C1D-4A26-A803-B9EA86C5D70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285EFA-A919-4ED9-AC5D-813B5021608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B5F42-0E40-4428-B8C3-74A1E2A06A7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D664ED-4459-48AC-BFC6-5C34626874A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268AE-F64B-44DA-B0A4-15DE5DF833B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0000A-4187-4402-8A79-23359F32AE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