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677193"/>
        <c:axId val="13753161"/>
      </c:barChart>
      <c:catAx>
        <c:axId val="8767719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753161"/>
        <c:crosses val="autoZero"/>
        <c:auto val="1"/>
        <c:lblAlgn val="ctr"/>
        <c:lblOffset val="100"/>
        <c:noMultiLvlLbl val="0"/>
      </c:catAx>
      <c:valAx>
        <c:axId val="137531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67719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3A37-4800-4A96-A7AA-E03799662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DAE0-92F8-4A3A-AD38-3B7C0B526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6F7F-926C-4079-8372-6AA6309F9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2D81-1261-487C-9F5A-686B2538D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98F7-6BF4-475B-990C-DB477988E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82AE-F457-47C1-AB00-A130D43BD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4185-8D2D-4A16-A5AC-BF8CA40AE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ED680-3299-49F6-BFFB-18529F74F9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2F544-CF4F-459C-9D63-9DE114A0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1CBE3-62CD-4022-8F65-590B6218D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2A32-E513-490A-9BEB-ED4C11E5C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92A4-47C7-4CF1-99D9-89A8E6419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5EFFF9-3AF3-41C7-84F3-FD7D33F11B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