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29902"/>
        <c:axId val="31804227"/>
      </c:barChart>
      <c:catAx>
        <c:axId val="20129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04227"/>
        <c:crosses val="autoZero"/>
        <c:auto val="1"/>
        <c:lblAlgn val="ctr"/>
        <c:lblOffset val="100"/>
        <c:noMultiLvlLbl val="0"/>
      </c:catAx>
      <c:valAx>
        <c:axId val="31804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9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516-EEFF-4143-9501-BD76D907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39D-19B3-41C0-8CA0-D581006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CBE-A251-4097-B38A-943044D3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E69-97E8-4E2D-8E56-DC3248D6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8E4-65FD-4C77-810F-28D3ED1D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52A-6DCA-4749-B23F-D100802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1B3-07FE-403C-B1CE-0468CFC7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A66-5EA4-4E45-994D-FD18606A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10B-2D7D-4425-A7E5-5CF4B10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68D-00DB-4217-9B0C-2C3A174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598-0D42-4E72-B314-5F5B388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EFE-3F22-470E-A13B-AFD1F77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5422-00BF-4E73-9180-5C21069F7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