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737299"/>
        <c:axId val="82701938"/>
      </c:barChart>
      <c:catAx>
        <c:axId val="407372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701938"/>
        <c:crosses val="autoZero"/>
        <c:auto val="1"/>
        <c:lblAlgn val="ctr"/>
        <c:lblOffset val="100"/>
        <c:noMultiLvlLbl val="0"/>
      </c:catAx>
      <c:valAx>
        <c:axId val="827019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372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B774-15F7-4760-B65D-6C08D73C8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6B56-9F6B-4178-A41C-F78F3E49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BB21-7EEC-41C8-A961-A14900217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8406-093F-47D6-B5F4-D3D2B8446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B480-B124-477B-9618-816E1EC8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0B5C-D9B4-4B2D-8D5F-7F9A14AB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0EAF-A57E-4A15-9CBD-4060E865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9109-02B9-46D0-A91B-8EC4903D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EE25-BF45-45D5-9504-0FDC9579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CD7D-856B-4850-8627-57088A68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D901-6512-46B8-A90C-18540336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DE55-546A-41A7-BFAC-2A262B63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9F83E-7400-4956-ADD7-3E56CF0FCC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