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39061"/>
        <c:axId val="97771779"/>
      </c:barChart>
      <c:catAx>
        <c:axId val="71639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1779"/>
        <c:crosses val="autoZero"/>
        <c:auto val="1"/>
        <c:lblAlgn val="ctr"/>
        <c:lblOffset val="100"/>
        <c:noMultiLvlLbl val="0"/>
      </c:catAx>
      <c:valAx>
        <c:axId val="97771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39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56C-8D3A-4AE3-B64F-17E3EB95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27D-6105-435E-B83A-14DD29B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A82-79DE-40E6-BFB4-945BD73B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57A-0973-4E13-BC1B-C718CAB3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D3B-BDB4-44ED-A394-C9AB837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354-8993-4988-867E-2DC8B2E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18D-F00A-4ACD-A2EE-AFFB625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B68-D777-4A4E-9343-1D36F82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E3F-EC9B-42E1-B40A-D5F79A5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E71-CE3A-44D0-B495-A2F4204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153-FC09-4165-BD9E-2B02C42C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A69-4A7B-4EE5-88FE-6B3DCD4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3AE5-963F-4C08-9C52-06CBDA274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