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33314"/>
        <c:axId val="56788961"/>
      </c:barChart>
      <c:catAx>
        <c:axId val="35133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88961"/>
        <c:crosses val="autoZero"/>
        <c:auto val="1"/>
        <c:lblAlgn val="ctr"/>
        <c:lblOffset val="100"/>
        <c:noMultiLvlLbl val="0"/>
      </c:catAx>
      <c:valAx>
        <c:axId val="56788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33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781-0B53-4CFD-A190-F5373F60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F43-4417-420B-AD17-B23C73E7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0FF-833A-463B-9716-4F0674B6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44A-E886-49B1-825E-F9F9042E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8ED-6EC3-4ABE-985F-CF77180A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D16-D32D-4B49-93B5-462418A3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98E-2529-4CC5-824D-BE96EBB8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F35-AC60-4CC1-A543-95C11170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A2A-FEFC-4217-8F68-93CD5869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1EE-F73F-433F-87E0-93BFF900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17D-55E7-4AF5-A193-BF247244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870-7BFC-43DB-886E-86533021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5B239-4105-436E-BBE5-4EB2A1EAE4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