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93677"/>
        <c:axId val="38962706"/>
      </c:barChart>
      <c:catAx>
        <c:axId val="29493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2706"/>
        <c:crosses val="autoZero"/>
        <c:auto val="1"/>
        <c:lblAlgn val="ctr"/>
        <c:lblOffset val="100"/>
        <c:noMultiLvlLbl val="0"/>
      </c:catAx>
      <c:valAx>
        <c:axId val="38962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93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3B7-EB99-4CAE-98DE-23AF0C08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097-B2D4-4C48-AD94-3B466C9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570-AF16-4917-8130-2CE1AC5A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504-54D0-42BC-ACED-C987B956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E5B-37E6-4FEA-8156-7E17C79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8E8-1FE7-4578-AD67-E5D560C5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991-50A3-44AB-BB61-68D383F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7B8-3B37-4519-968A-E7B73E4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A6B-A6E1-47AD-8995-014E286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D00-92ED-4FDA-BA9D-7D9722D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730-0471-4702-8D73-48352C9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779-2FFE-46A5-9E64-CF00518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2FB97-E71B-4EA6-9EA6-8CAB94E062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