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49944"/>
        <c:axId val="50535377"/>
      </c:barChart>
      <c:catAx>
        <c:axId val="59949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35377"/>
        <c:crosses val="autoZero"/>
        <c:auto val="1"/>
        <c:lblAlgn val="ctr"/>
        <c:lblOffset val="100"/>
        <c:noMultiLvlLbl val="0"/>
      </c:catAx>
      <c:valAx>
        <c:axId val="50535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49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103-244F-4B9C-9A8F-4FA51B5B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C2A-2845-4EE4-9399-60E71A65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45E-51AD-4738-B7CC-224D00A6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046-67EE-4A7A-8871-996218F0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2B8-09B6-4B8B-96C5-4838F3C0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891-FA6C-4462-A7CD-B2376769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BB6-C95B-4FD3-8CEE-81F8771D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9CA-622A-4AE0-A99D-C8A09E43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400-CD9F-4742-A256-786B05CD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2E0-C6ED-4E04-B0A3-7B0B7AB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271-0501-4645-B2CD-8805F725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70A-D95F-4876-B15F-388B250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1F3A3-2BDF-4E38-8FC1-BA95E0D5DE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