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99989"/>
        <c:axId val="48049890"/>
      </c:barChart>
      <c:catAx>
        <c:axId val="96099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49890"/>
        <c:crosses val="autoZero"/>
        <c:auto val="1"/>
        <c:lblAlgn val="ctr"/>
        <c:lblOffset val="100"/>
        <c:noMultiLvlLbl val="0"/>
      </c:catAx>
      <c:valAx>
        <c:axId val="48049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99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689-FE38-4156-8DCA-35CA9B6B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68D-C4AD-4199-9AF2-8F8FB3F2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607-9A06-446D-93B2-F13D2923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027-D64E-4617-8CC6-CAEB4B5B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F2C-D303-42C1-9D56-6D6E876E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A4F-FF72-4186-A221-C588F53F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356-22BC-4AB4-8AF1-8967FC9F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1EF-B40F-42CF-9608-693F02FA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A72-24EE-42BB-AB8A-E6765D85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B6F-0F16-47BE-BDF9-000BB104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D44-9627-43F7-BDDB-20BB958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898-9CF5-49C1-8F2C-10DD700E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CEA85-CD4D-493D-A113-40127B0D3F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