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3781092"/>
        <c:axId val="46757812"/>
      </c:barChart>
      <c:catAx>
        <c:axId val="8378109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757812"/>
        <c:crosses val="autoZero"/>
        <c:auto val="1"/>
        <c:lblAlgn val="ctr"/>
        <c:lblOffset val="100"/>
        <c:noMultiLvlLbl val="0"/>
      </c:catAx>
      <c:valAx>
        <c:axId val="4675781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78109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00FAD-D562-4D70-9FFD-7D7C7F371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41513-6224-4553-B977-DBC2B52DC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3891E-0CC9-4A2C-B18B-6B1FF22B0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17644-5978-4E0F-830D-B67C376EE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392E5-70A8-403D-A0BF-2B99B65F1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6E8BE-4B4F-461E-B4CC-0CF72F7B2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5E00F-F751-4E27-A2D8-DB22DA563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44DED-F62B-4FAE-983C-A78D3CE21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A7F6F-5564-45A4-A11E-18AB277A1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FE6B3-0CD3-46AA-9A5C-A8A5B5183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F8B96-B14E-4172-955C-5F4BE7903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D48BE-21F3-440A-AC67-1AE4A67E4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EE33FE-F01D-4C89-A28D-4FB3959DA58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