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152064"/>
        <c:axId val="98426540"/>
      </c:barChart>
      <c:catAx>
        <c:axId val="441520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26540"/>
        <c:crosses val="autoZero"/>
        <c:auto val="1"/>
        <c:lblAlgn val="ctr"/>
        <c:lblOffset val="100"/>
        <c:noMultiLvlLbl val="0"/>
      </c:catAx>
      <c:valAx>
        <c:axId val="984265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520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9219-415B-4780-84D4-4C09B4804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0BC5-D44B-4169-A12B-6722A2AA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F4BC-8D27-4DC6-85D0-8CFDECEF6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7005-3B13-4E42-8353-E1BDF1A01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FA5C-C9F8-4C5D-A9EF-D96181C7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59E8-C722-4E7D-8D40-0102CE01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C3A0-DEEB-432F-B527-B09BD78C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F45B-54F4-4629-8FEB-B347B5F0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403F-E178-4DD9-97FA-60AB37D3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501A-46D4-493A-B082-57DE18E9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48CB-25CF-4727-8E60-0AE39D90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E2A7-D8AA-4BF1-9DF5-685EE74C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3E689-85DB-4D66-83B5-66EF809B77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