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283101"/>
        <c:axId val="8300360"/>
      </c:barChart>
      <c:catAx>
        <c:axId val="682831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0360"/>
        <c:crosses val="autoZero"/>
        <c:auto val="1"/>
        <c:lblAlgn val="ctr"/>
        <c:lblOffset val="100"/>
        <c:noMultiLvlLbl val="0"/>
      </c:catAx>
      <c:valAx>
        <c:axId val="83003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831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6CAB-F563-41B7-B95B-602658837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44D3-EE47-4014-A515-680717B9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BAE6-F2BC-4E4D-AEAF-A27BA239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9346-8003-4628-82F0-3640A2515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676F-4FBD-4A84-9BB3-E21735B0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92F4-5767-48A8-92EC-6296F4E3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B1D5-C20B-46A5-80FF-580409F7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78EB-C7B7-4706-B502-5CE9B5DF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97BA-869B-48AB-92FA-21A01A9F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2E4A-4CAA-471F-9C94-CE1580E2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4C8D-EE64-4B8C-82C2-0C1938B4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A492-04D5-40F2-892B-9FB774B2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EA376-6291-4556-9748-90C7CDE6C2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