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115932"/>
        <c:axId val="99990397"/>
      </c:barChart>
      <c:catAx>
        <c:axId val="94115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90397"/>
        <c:crosses val="autoZero"/>
        <c:auto val="1"/>
        <c:lblAlgn val="ctr"/>
        <c:lblOffset val="100"/>
        <c:noMultiLvlLbl val="0"/>
      </c:catAx>
      <c:valAx>
        <c:axId val="999903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15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039-9008-49EB-A4F9-BAF0C5BD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5DF-7AAD-4E25-AEDB-64B71ACB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C335-6B4D-4BE6-8044-2B997EFB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0BF5-4388-44F1-8CFB-E759B95C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731-7FD0-480A-9DE1-197624EC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FD1-4C03-47BB-A9AB-EE965021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A93-CD1C-406E-9557-F4A42FE2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4883-58E4-47CC-814D-90E00C85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5E8-1F86-450A-84C5-AD14DEAD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83E-9672-41BE-9CA7-4485F41A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EC73-430A-49A2-B145-54361DF7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9318-90DC-414D-A53B-0C4EF52C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202DB-5E63-4917-A855-9CF1571DD1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