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21872"/>
        <c:axId val="2811157"/>
      </c:barChart>
      <c:catAx>
        <c:axId val="92021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1157"/>
        <c:crosses val="autoZero"/>
        <c:auto val="1"/>
        <c:lblAlgn val="ctr"/>
        <c:lblOffset val="100"/>
        <c:noMultiLvlLbl val="0"/>
      </c:catAx>
      <c:valAx>
        <c:axId val="2811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21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7F1-6746-4098-8B54-594DD41D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172-A94E-413F-91C2-EB50B9F2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83D-2ECD-4417-97FB-755B52A2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05D-8EF1-417E-B315-BC79C1FA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01E-90C2-4996-BA30-77325611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3CC-93E3-4F6D-851E-F94FFA5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604-F05C-4EC5-B5F6-7BE4A0CE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F53-89C3-43A8-962F-3F337ED2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F31-5A99-4408-8941-44AB4F2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74F-B2C6-4278-A72E-A29A02C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752-123C-4E91-B874-E3D320BA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BBF-EF98-432D-A0E7-DE01DB02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4BE83-1671-4AD8-BC78-DC6C09B5B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