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30"/>
        <c:axId val="11981711"/>
      </c:barChart>
      <c:catAx>
        <c:axId val="12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81711"/>
        <c:crosses val="autoZero"/>
        <c:auto val="1"/>
        <c:lblAlgn val="ctr"/>
        <c:lblOffset val="100"/>
        <c:noMultiLvlLbl val="0"/>
      </c:catAx>
      <c:valAx>
        <c:axId val="11981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333-FE3A-4382-B1B6-A795FF51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61D-BC5C-42C8-90D5-6ACFCA6F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1F5-1F09-4256-A0EA-ED232A58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2F9-B801-4E90-B814-036CA441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4FA-6BCD-43C2-98A7-5824E2F0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004-7146-4820-8A18-B442CEEB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BFA-D687-42F7-995F-3B3A5C59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CFA-2C42-49BD-8021-CC975A47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AB2-2A9D-49E0-81DB-B5861016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97E-BEA6-4C00-827C-3065262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EA2-17C9-41F4-BCE5-30D89461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745-AB77-438D-8AB2-B4D31384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D64F9-3F38-4D20-909B-3FEAACB7F9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