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93480"/>
        <c:axId val="14741485"/>
      </c:barChart>
      <c:catAx>
        <c:axId val="283934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41485"/>
        <c:crosses val="autoZero"/>
        <c:auto val="1"/>
        <c:lblAlgn val="ctr"/>
        <c:lblOffset val="100"/>
        <c:noMultiLvlLbl val="0"/>
      </c:catAx>
      <c:valAx>
        <c:axId val="147414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934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66CE-859C-4C0C-A9C5-7937B5C2B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7E8-442F-44B6-A353-4B1BDC54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9DE-0D31-497A-9CD6-B1702BFA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334-F4E4-4B71-BA61-3C470AC31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D5E-54BD-482A-A1E5-0070EAB6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360-A513-4FC1-B370-DA64305C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EA6-D30A-4C0E-8112-7F9EE354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5155-2DD4-431D-89D2-FE6934B7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70F-7575-4759-AE6B-75099653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BBD6-C844-41C4-B352-0ABC9C28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E06E-2806-4222-A94E-B7489D97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3211-2C02-4E76-85A9-843150C6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BF4D8-60ED-407B-BC98-5C955FA216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