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64070"/>
        <c:axId val="96699115"/>
      </c:barChart>
      <c:catAx>
        <c:axId val="47264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99115"/>
        <c:crosses val="autoZero"/>
        <c:auto val="1"/>
        <c:lblAlgn val="ctr"/>
        <c:lblOffset val="100"/>
        <c:noMultiLvlLbl val="0"/>
      </c:catAx>
      <c:valAx>
        <c:axId val="96699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64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31C-B668-40FB-AB53-085FC1FF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779-5CE6-41A1-B6FB-855B066D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D8A-1C4C-498E-83D0-D86C68EC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4DB-9DFC-4688-9B23-810747B3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C9D-6CDB-49A6-B391-478AF1C9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5E3-FB7C-464F-BF0B-B762AAEA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01A-96E9-464C-8983-FEA488E4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4E3-9769-467F-86AB-96B6A0D6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3D2-521E-4BFD-80D2-2261FC6C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141-2360-4C81-A841-5C818DA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7AD-EBB3-4169-8A30-267D910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B3B-1EAF-4FE9-826D-0E878A20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BC2D4-5B95-4C06-BF0F-98C3E7130C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