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53823"/>
        <c:axId val="31557345"/>
      </c:barChart>
      <c:catAx>
        <c:axId val="613538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57345"/>
        <c:crosses val="autoZero"/>
        <c:auto val="1"/>
        <c:lblAlgn val="ctr"/>
        <c:lblOffset val="100"/>
        <c:noMultiLvlLbl val="0"/>
      </c:catAx>
      <c:valAx>
        <c:axId val="31557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538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842-7CEE-498E-865E-A0A8F912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F5B-A659-4497-9FE3-4DF7A917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680-299F-48D5-A580-DAA8AFE4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0D5-4FF0-4386-BBF0-A82C11CD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A4D-0EDE-465D-8844-031B55A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BF6-C933-4064-BE75-BA972D43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A87-3E0A-4FE7-AAF3-0494519D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8F1-667A-497C-92A0-94CAC751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AAD6-D8A7-4E10-8631-C340C446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F98-981F-4AF3-84A0-B176BD1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F706-0587-4C93-A963-9B1E137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056-B718-4991-951F-088E604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F9C4E-3B5D-4BDC-B298-4E04BF75C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