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37271"/>
        <c:axId val="19152454"/>
      </c:barChart>
      <c:catAx>
        <c:axId val="32372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52454"/>
        <c:crosses val="autoZero"/>
        <c:auto val="1"/>
        <c:lblAlgn val="ctr"/>
        <c:lblOffset val="100"/>
        <c:noMultiLvlLbl val="0"/>
      </c:catAx>
      <c:valAx>
        <c:axId val="191524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72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E52B-310F-432C-91E6-7CA5D26D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AEAA-363A-4675-892B-9AB2A186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156D-93E8-4585-ACE0-65EBD9EB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5710-3743-47F6-8DCC-A8365315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F973-819D-4FE0-9584-BADBF39C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97CA-2722-44B9-A26D-25BE5F83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7F8F-2F8D-438A-8594-E1FD60B1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3D71-169A-4901-9021-E4823869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018F-0359-47B2-9DEE-0EF6B0FC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984C-C26B-4D83-AA18-B7F5FED1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278E-B699-43B3-B79F-276CCD5B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B8E6-1E63-45F7-B8EC-25C780FB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29851-799C-4F32-9826-4263CB138B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