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03316"/>
        <c:axId val="40712107"/>
      </c:barChart>
      <c:catAx>
        <c:axId val="83003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12107"/>
        <c:crosses val="autoZero"/>
        <c:auto val="1"/>
        <c:lblAlgn val="ctr"/>
        <c:lblOffset val="100"/>
        <c:noMultiLvlLbl val="0"/>
      </c:catAx>
      <c:valAx>
        <c:axId val="40712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03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F8E-B554-42FC-93B4-5C61051A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469-5AD2-4D45-83B4-37DECBD8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A55-2CF5-44D4-9423-9D1DE90E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BFE-4CFA-4918-A270-CB3EAEF6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D8A-8EE8-48B3-A1DD-B28B1173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299-C1CB-4FDE-A8CF-EAC074A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E26-16D8-4A47-9022-44737C65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353-9770-4B80-8A58-F5BCA978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696-858F-4EA1-A118-7A588F6F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CF5-4149-4D3C-BA49-EA61669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97F-8F4C-4610-8189-D0EF87E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56F-4A32-44D7-998C-7A962A07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F1896-5BAD-43EA-B8D8-8560257C65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