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16446"/>
        <c:axId val="55062087"/>
      </c:barChart>
      <c:catAx>
        <c:axId val="99016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62087"/>
        <c:crosses val="autoZero"/>
        <c:auto val="1"/>
        <c:lblAlgn val="ctr"/>
        <c:lblOffset val="100"/>
        <c:noMultiLvlLbl val="0"/>
      </c:catAx>
      <c:valAx>
        <c:axId val="55062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16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66D-8885-4F94-A5E4-7F2762C5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B22-3D4B-44B7-A6FD-D157B7B4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DD8-1CAD-44F1-958D-C3DB924C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120-8FD4-4242-9C8D-21D2275A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A42-E410-424A-A43D-4ED42DF2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E0D-6B35-4540-AA37-6D10BB92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104-10CF-4588-9A5E-8E824BF7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1D0-7D37-4C61-B09F-3B5C7FC5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DC7-9267-4856-AA53-46CCD832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764-A3B7-4C8D-9ED1-71214297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E9B-9F4F-4573-B2D2-69778DC6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544-78AC-4825-AB9F-DC69D51F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959AC-67BF-4E0C-BF70-A4F4CC27A1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