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78839"/>
        <c:axId val="43931518"/>
      </c:barChart>
      <c:catAx>
        <c:axId val="87378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31518"/>
        <c:crosses val="autoZero"/>
        <c:auto val="1"/>
        <c:lblAlgn val="ctr"/>
        <c:lblOffset val="100"/>
        <c:noMultiLvlLbl val="0"/>
      </c:catAx>
      <c:valAx>
        <c:axId val="43931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78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DC6-BB8F-408D-9467-83E9BFD9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71B-B6E0-4B96-92A2-DC223437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301-902E-42BB-95D0-36391860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C4E-349F-452C-9E8F-7BD210D5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46F-7F6E-4F5F-99F1-976D4F1D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A06-A691-411B-9632-783A61C7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2B3-1A6A-4196-ABE6-0A80E404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29E-DAB4-4D39-9FD4-51D723AE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774-FB54-406C-BF5F-251CA8D0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15D-3970-494B-9F69-649FDA7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9EF-A874-4835-BBA5-1AFB5FE3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D11-9E52-484B-91E2-D846A79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F1037-8798-40F1-9454-74D0690A6D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