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54665"/>
        <c:axId val="95657278"/>
      </c:barChart>
      <c:catAx>
        <c:axId val="16154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57278"/>
        <c:crosses val="autoZero"/>
        <c:auto val="1"/>
        <c:lblAlgn val="ctr"/>
        <c:lblOffset val="100"/>
        <c:noMultiLvlLbl val="0"/>
      </c:catAx>
      <c:valAx>
        <c:axId val="956572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54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BF0-E64F-4342-9C39-A44D9CDD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7EC-7B01-4CD1-8B9C-AC257BBB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E00-AEE7-409C-988C-0A91700E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1D6-1108-4102-B00D-8DA6EC8F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582-A991-4586-B182-B2489E21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4ED-B069-472C-BEB4-0106D5CB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ED6-5900-4D2B-AAF7-2611AC8B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793-3BFE-4B6F-8FA0-AAD8C3D7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07AA-1750-4672-B226-EDEBD259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997-A246-41C4-8080-488FEB5E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EA2-1D9D-4E1D-9A4B-19583AD7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31F-AB4A-46F9-BA03-3CC641F6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BCCF1-9498-483D-B773-A42FB57C6A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