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03350"/>
        <c:axId val="39018828"/>
      </c:barChart>
      <c:catAx>
        <c:axId val="87033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18828"/>
        <c:crosses val="autoZero"/>
        <c:auto val="1"/>
        <c:lblAlgn val="ctr"/>
        <c:lblOffset val="100"/>
        <c:noMultiLvlLbl val="0"/>
      </c:catAx>
      <c:valAx>
        <c:axId val="39018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3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A18-C805-4363-9E39-823BCD61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A5C-A429-4A84-B3DB-042F58DB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5AD-BF1C-45C8-B5C2-06745824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4AE-61C6-472E-BEFE-124131AF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25E-02C2-4139-8FC1-5A4287D5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FE06-28AE-4209-AC3B-55B9B681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82B3-63B0-4A14-B593-20B434F5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0459-BE59-4826-9FE2-B2EE97B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43F-6083-4103-B2CF-F4DF695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326-C242-474C-8DE9-B22C0027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EDD-D718-47AB-8F9F-C022B2ED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E57-9FB3-4AD0-BE0B-2EB5505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984E4-488D-4DCC-91EB-CD59E161A2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