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21374"/>
        <c:axId val="78065312"/>
      </c:barChart>
      <c:catAx>
        <c:axId val="47221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65312"/>
        <c:crosses val="autoZero"/>
        <c:auto val="1"/>
        <c:lblAlgn val="ctr"/>
        <c:lblOffset val="100"/>
        <c:noMultiLvlLbl val="0"/>
      </c:catAx>
      <c:valAx>
        <c:axId val="78065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21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FC7-9C38-49E2-8DB3-3F9679F9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417-802F-4224-9C5F-DD2F3B1D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746-8ABA-4C39-A9DA-43BCE5EF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A91-BE98-4306-98D0-79697BDB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7A1-7602-49F2-B143-8EAEFFF8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FCD-7C5B-4F72-8573-6C0F5E76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9BC-3CAC-40A2-A782-FEDF1327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E78-DB39-4B4D-8A84-01377AC0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0AA-A928-4F8E-92DE-CDCB9735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015-804D-4900-ACFE-F3B19C1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1D1-763E-434D-96D2-DBEA6C0D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B93-A989-4DF4-AF26-66DD12AB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FF07C-6D2C-463E-B743-3C18E819F0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