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44049"/>
        <c:axId val="76509530"/>
      </c:barChart>
      <c:catAx>
        <c:axId val="18044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09530"/>
        <c:crosses val="autoZero"/>
        <c:auto val="1"/>
        <c:lblAlgn val="ctr"/>
        <c:lblOffset val="100"/>
        <c:noMultiLvlLbl val="0"/>
      </c:catAx>
      <c:valAx>
        <c:axId val="76509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44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49B-C98B-4428-A501-BC949D93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512-5F14-4D1B-8E23-FB094DDC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1E1-A6E2-45AB-9C3B-1E9A39B5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128-C248-429D-952D-1ABAA295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0D2-7EE2-4598-A374-686F48A5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E96-D78C-4CB1-91E2-D83D9893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180-8CF7-4F1E-9241-B5A59DAE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BE0-D9F0-41CA-A196-7CB28C7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DDC-C832-4ED9-B4F0-DF42BF40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D1C-7FC7-443A-AA89-4F98DD30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5CA-918E-4862-8588-8E7C42F0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704-932D-4156-AB9E-E70EDED6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35104-C060-464C-A192-0D658E6EFE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