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20233"/>
        <c:axId val="24658760"/>
      </c:barChart>
      <c:catAx>
        <c:axId val="48520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58760"/>
        <c:crosses val="autoZero"/>
        <c:auto val="1"/>
        <c:lblAlgn val="ctr"/>
        <c:lblOffset val="100"/>
        <c:noMultiLvlLbl val="0"/>
      </c:catAx>
      <c:valAx>
        <c:axId val="24658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0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578-B3BF-426C-B177-03AEDF9D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7BB-7C51-44B3-BD37-22EF7D88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7AC-05ED-4B19-B70A-71242A08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A2A-08BD-4D9C-B1A7-B1DF6342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0DC-4243-415F-95F7-F877531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580-5710-40F4-A3FD-25DB6715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362-33BC-4E78-AA7D-9D9F88F7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8BF-8387-422D-86FD-4C52B5BC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947-57E1-497B-9E9C-844EA805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174-A059-4629-99A1-E040FF8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629-B373-4590-BDD0-A616FA0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10D-C2E2-4F8A-AC3C-B2BF7EC0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3E086-B416-4439-86EA-7EC7CAB96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