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61610"/>
        <c:axId val="10113834"/>
      </c:barChart>
      <c:catAx>
        <c:axId val="51761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13834"/>
        <c:crosses val="autoZero"/>
        <c:auto val="1"/>
        <c:lblAlgn val="ctr"/>
        <c:lblOffset val="100"/>
        <c:noMultiLvlLbl val="0"/>
      </c:catAx>
      <c:valAx>
        <c:axId val="10113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61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838-B067-450E-84F9-606DC3D6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5E3-1528-4D56-ACDB-BEB8E27E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DDA-B726-4DCD-92EE-EB206DA7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DE7-03B9-419B-8C80-76F70BE9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8E6-8688-4900-8FE3-481F77B2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31A-1C1E-439F-A233-27863B60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1F6-1C30-4E6F-9166-EBDAC5F4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BA6-2685-494B-98B1-6E97A67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680-E4BA-4D4E-9C99-B9C94DD4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1A3-F4BF-437C-B4C3-66A1CCCA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E53-565A-463E-B7CB-8236FA3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C7D-E094-46D3-80A0-5A4D45D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4E667-32E9-4CC6-9FFD-1791360E00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