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00837"/>
        <c:axId val="6420616"/>
      </c:barChart>
      <c:catAx>
        <c:axId val="21600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0616"/>
        <c:crosses val="autoZero"/>
        <c:auto val="1"/>
        <c:lblAlgn val="ctr"/>
        <c:lblOffset val="100"/>
        <c:noMultiLvlLbl val="0"/>
      </c:catAx>
      <c:valAx>
        <c:axId val="64206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00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564-8883-4560-A036-720DC12F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28E-58AE-4A8B-8468-37198CCF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AA1-844E-425E-95EC-4F40D63F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99C-2596-47EF-9A7B-D8A4E0E8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AE82-A68D-4EF3-9F00-251D12D4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25E-13FD-4DA6-A601-1AB0A0C6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E92-B9B1-4CE2-B4F7-9D4DE5DE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C76-826B-47D3-8739-2362A5E7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E681-5573-4699-8BEE-A735F869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1A9-E17B-420D-9133-512B5661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CB3-AA33-4C86-9175-ED4AE198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EA1-D351-4F7F-9470-82884FA4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E09C0-3106-4462-B062-7398D5DCF6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