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52614"/>
        <c:axId val="53054146"/>
      </c:barChart>
      <c:catAx>
        <c:axId val="58052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54146"/>
        <c:crosses val="autoZero"/>
        <c:auto val="1"/>
        <c:lblAlgn val="ctr"/>
        <c:lblOffset val="100"/>
        <c:noMultiLvlLbl val="0"/>
      </c:catAx>
      <c:valAx>
        <c:axId val="53054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52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D0D-D479-48B4-964F-906B7CF4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FD2-E886-41EE-9F36-4B770E61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1B7-2AE5-446B-9A74-05571CB7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686-5A92-45BF-BBC2-3636C340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F58-D609-40AF-871D-6C04866E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51D-5246-45D1-B91C-FFB31370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684-B48A-4A9C-96BA-5792721D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AFA-8E87-4D52-80A1-C37215AB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2A5-DCB6-46EA-83DA-D22428DD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ABD-97B5-44E1-952D-FC151698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83D-56F0-40CB-B367-3E5972D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B63-C813-4063-9D42-3A24214D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F5DC6-D78E-42A2-AB2A-8E69A6C2B7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