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021934"/>
        <c:axId val="18722422"/>
      </c:barChart>
      <c:catAx>
        <c:axId val="350219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22422"/>
        <c:crosses val="autoZero"/>
        <c:auto val="1"/>
        <c:lblAlgn val="ctr"/>
        <c:lblOffset val="100"/>
        <c:noMultiLvlLbl val="0"/>
      </c:catAx>
      <c:valAx>
        <c:axId val="187224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219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33A1-C814-44D9-8485-A1A97F14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1264-ABA4-4924-81A4-1B35ECE2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0942-6870-4393-B2B2-8842B5CA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0FFD-BF30-4656-B0EB-B2797AECD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2B92-E197-495F-AAC0-8E921681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A0A8-DF62-4972-A384-11D1311A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3B94-3183-4EF9-A6BA-6326C99F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336C-D2A1-4EDC-B6E8-3A77757C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C9CC-4588-4612-9042-7A89992C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6EBE-3EAA-47A1-8D16-F97A3E2F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0191-3322-4ACB-8A8D-E389A278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F902-08AE-4ECF-98BD-D12E3DA4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A0065B-1BC1-43D8-A731-4421E77D49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