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47334"/>
        <c:axId val="51533006"/>
      </c:barChart>
      <c:catAx>
        <c:axId val="88347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33006"/>
        <c:crosses val="autoZero"/>
        <c:auto val="1"/>
        <c:lblAlgn val="ctr"/>
        <c:lblOffset val="100"/>
        <c:noMultiLvlLbl val="0"/>
      </c:catAx>
      <c:valAx>
        <c:axId val="515330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47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04C5-AC4D-4364-B653-425AB95D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8B7-7912-4744-A19A-5C82824D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02A-FDF3-4D24-9B50-EA574035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430-64F7-40AE-BCCC-F2846CF6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99DF-5C1F-471E-B4E5-98980632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BBC-C37E-46AE-9CD3-881D3EA7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A9F-6A0B-4A4E-97E5-5FE86AE9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04C-6751-4859-AA0E-9D67A612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CEB0-9E77-44E1-8CAF-11CE817D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2942-B844-4E00-BD16-CEBB4D5E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69C0-D5E3-41C2-A92E-AE3F9996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F54-686E-4011-B049-432ED339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966CF-BEF5-49F6-810A-58C5C6EFCC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